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70F-6BDD-4467-9ABA-CBB473C7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371-1341-47BB-9A1A-AAA371EF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90A-BC66-470A-8656-8F3689B9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A06-B785-48CB-B03F-15AB9235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B37-4A84-43E1-AD15-11CB670A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078-67E8-48E7-AD23-F8BD7711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161-68B0-4774-8DFA-134FB54F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923-26D3-441F-9817-8C80E8E4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4FC-D7B2-4935-A486-F4F84D1F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43A-E46D-4358-B1BB-233EDAE8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726-FE49-487C-9017-90BEFEE3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9B1-5799-4F07-A8E0-8926DEBD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726B-AB62-4AFF-A1FC-EBCA172EE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for The communities in the Ni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quiz: multiple ch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re the communities begin to app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5000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6000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600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ming began in what two commun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Egypt and The N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Egypt and Nu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Nubia and the N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traveled __________ And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uth and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North and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North and sou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traded _______,______ and ______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ilver gold and bro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old silver and fine pot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ottery, Silver and Bro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ile was used to transport goods to the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Nu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gy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houses were made out of ______ And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Brick and m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Brick and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Mud and po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7:20:01Z</dcterms:created>
  <dc:creator>Default</dc:creator>
  <dc:description/>
  <dc:language>en-US</dc:language>
  <cp:lastModifiedBy>Default</cp:lastModifiedBy>
  <dcterms:modified xsi:type="dcterms:W3CDTF">2009-01-27T15:26:49Z</dcterms:modified>
  <cp:revision>3</cp:revision>
  <dc:subject/>
  <dc:title>Questions for The communities in the Nile…</dc:title>
</cp:coreProperties>
</file>